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7B4-A1D9-45EF-AD0F-97FA74D1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F79-75A1-4CA6-82B0-06FCB4A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0E0-7F85-40A8-AA59-077F09C1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8CA-C90D-417A-BC6A-A045EEEF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BA9D-3D9C-4F4E-9A06-2C87418B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0D8-7A11-4283-9826-120793D9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85E-FDF9-44CD-B428-5EABD63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D16-329E-413D-9A81-12D3B47F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C6A-FC56-46BE-B3BA-2A95226A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152-BC8D-42E2-BCD9-15E54FC6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7F9-75C6-45B1-986A-7AA7965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EFA-7FDB-4C10-B261-0F140711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234-556D-4EE4-A7BB-214E5A8C6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767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 trailing 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2767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Vanes, outer bushing.  Wear on bus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64008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Rotor to Case Rubs on 2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400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il Sheen throughout Compress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695720" y="2666880"/>
            <a:ext cx="7621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276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Rotor to Case rubs, 4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&amp; 5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276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Metal Splatter 14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with no apparent Leading edge damage.  Appears to be in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2767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burns on Dome Plate assy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600200"/>
            <a:ext cx="129564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267080"/>
            <a:ext cx="1295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066680"/>
            <a:ext cx="1295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911400" cy="2933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3911400" cy="293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911760" cy="293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31240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s have some clogged cooling holes and also a blue-green mildew is present in the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adial Cracking on all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 vi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64771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ouging on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s and mild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343400"/>
            <a:ext cx="129564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2767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 Gouging and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 damage from impacting shro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371600"/>
            <a:ext cx="2895480" cy="1905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4008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rn through on convex side of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 Platform.  TBC loss on Convex Surface of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5181480"/>
            <a:ext cx="8380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238880" y="3657600"/>
            <a:ext cx="533520" cy="2666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3657600"/>
            <a:ext cx="0" cy="2666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60" y="360036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3835440" cy="287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00600" y="32004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mage on Convex side of all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219320"/>
            <a:ext cx="114300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4008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 appear to be service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7:59Z</dcterms:created>
  <dc:creator>ggolden</dc:creator>
  <dc:description/>
  <dc:language>en-US</dc:language>
  <cp:lastModifiedBy>PES</cp:lastModifiedBy>
  <dcterms:modified xsi:type="dcterms:W3CDTF">2009-03-11T13:47:05Z</dcterms:modified>
  <cp:revision>6</cp:revision>
  <dc:subject/>
  <dc:title>Slide 1</dc:title>
</cp:coreProperties>
</file>